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5057-5DC5-4A8B-A901-DDA5D69E5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AA9F-F138-4B01-B64B-4B0000B92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 Enlarging raster graphics causes them to become pixelated (you can see the individual blocks of colors that make up the imag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44C1-3848-4D0A-A739-2C7C13BF8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5A63-894A-4757-B922-890B6FFB8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FCDA-044A-4C35-B991-F0FCC1B15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 This format is best for images containing many colors or shades of color. Most digital cameras save the images made with the camera as JPEG files on their memory c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62CD-D14B-45B6-B8FA-C38B79E2A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 When editing images, all the changes would be made to the BMP file. When the user is satisfied with the final image, they would then save the BMP as a different file format depending on their intended use of the image. (For example, if it will be used on a website, the images would be saved as a compressed file format such as GIF or JPEG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on-screen display, this means displayed on the monitor but is referring to images that are on the desktop computer, not from Internet web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1441-C2E2-412E-A9C9-4A930CFDD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 Browser software or image editing program may require the user to download a plug-in before recognizing or opening the f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880A-5549-49B0-8EFE-292E28464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 TIFF images have very high quality which is ideal for faxes or printed images, such as those used in desktop publishing. However, this results in a large file size so it is not recommended for images that will be viewed over the Inter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EAA9-8903-4645-8684-6A1B80ECD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5E0-3ADE-410B-8820-F19AE899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36867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2A7-8900-47E5-B6F7-66F68DFB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808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D6EA-1D1A-4BBA-A8E0-0DA0EEE7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84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2904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84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2904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946-AA36-4B5B-BB25-EE9FEE1E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948D-9F35-4E1C-B4F9-423EC634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F437-A346-46D4-BADC-DD62C10A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BE5F-4A08-4814-B9DE-4B3F0008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85B8-5752-4A10-85FE-2F0A5654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7AC3-ACF4-4B8B-A16A-7D3DDCCE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D7E0-308A-4A4D-AAC8-E4C36141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B3B2-E0DC-4561-BB70-F7104003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4F8-F599-481D-A306-328BCF40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1808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6772-F680-46CD-9489-0B8455B4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AB4C-9EED-4C98-A82C-FF8F243C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6867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CD1A-39CF-4464-BFA3-E63EC2A3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1808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659A-44B2-48E1-823F-006C9A69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584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2904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584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2904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0576-2D17-428B-8030-7AA2E9F8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79B-1AF4-4027-A2FD-EEAEA22D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1808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143000" y="36867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1808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3584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72904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14300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3584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72904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798-5BA6-42AD-AC99-7A168568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51CF-4FEB-4758-8AE5-5491A775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52D-0A0C-4F75-8466-18954CD3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6FF-7CAE-4EEF-BB4F-372BF2C7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808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161-D61E-4C3D-87D0-B11B32F7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183-0E42-45CA-A0A9-CCADB26D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CCBB-54E1-4419-BA44-0EA0161F6A09}" type="datetime">
              <a:rPr b="0" lang="en-US" sz="1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9651-1CEC-4BBE-AF84-8A2FB5A7B77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F781-6780-43A7-986F-722C6D8601A0}" type="datetime">
              <a:rPr b="0" lang="en-US" sz="1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2390-55DB-45A9-973A-CEBFD6959C9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raphicssoft.about.com/od/freedownloads/l/blfreepng07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aster Graphic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01 Investigate graphic image desig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ster Graph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4648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call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tmap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st of grids of tiny dots called pixe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 fixed resolution and cannot be resized without altering image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ited in paint progra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bitmapicon"/>
          <p:cNvPicPr/>
          <p:nvPr/>
        </p:nvPicPr>
        <p:blipFill>
          <a:blip r:embed="rId1"/>
          <a:stretch/>
        </p:blipFill>
        <p:spPr>
          <a:xfrm>
            <a:off x="5562720" y="1905120"/>
            <a:ext cx="2819160" cy="2819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4952880" y="50292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map 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562720" y="4724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ce the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 flipH="1" flipV="1">
            <a:off x="6552720" y="388620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3733920" y="624852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source:  http://graphicssoft.about.com/od/aboutgraphics/a/bitmapvector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Raster Forma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I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PE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M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IF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hamu-grad"/>
          <p:cNvPicPr/>
          <p:nvPr/>
        </p:nvPicPr>
        <p:blipFill>
          <a:blip r:embed="rId1"/>
          <a:stretch/>
        </p:blipFill>
        <p:spPr>
          <a:xfrm>
            <a:off x="7696080" y="0"/>
            <a:ext cx="971640" cy="1219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scene"/>
          <p:cNvPicPr/>
          <p:nvPr/>
        </p:nvPicPr>
        <p:blipFill>
          <a:blip r:embed="rId2"/>
          <a:srcRect l="2839" t="3924" r="3546" b="7848"/>
          <a:stretch/>
        </p:blipFill>
        <p:spPr>
          <a:xfrm>
            <a:off x="4103640" y="1447920"/>
            <a:ext cx="4584600" cy="3124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icons3"/>
          <p:cNvPicPr/>
          <p:nvPr/>
        </p:nvPicPr>
        <p:blipFill>
          <a:blip r:embed="rId3"/>
          <a:srcRect l="0" t="0" r="34991" b="0"/>
          <a:stretch/>
        </p:blipFill>
        <p:spPr>
          <a:xfrm>
            <a:off x="1143000" y="5105520"/>
            <a:ext cx="670572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F – Graphics Interchange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21896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ima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Standard format for animation on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parenc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y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ssless com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l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256 (8-b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419720" y="1218960"/>
            <a:ext cx="4495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ommon format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p art, animations, icons, log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ple diagrams, line draw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phics with large blocks of a single co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phics with transparent area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ges displayed on computer screens and on websi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33520" y="4495680"/>
            <a:ext cx="784836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1219320" y="4648320"/>
            <a:ext cx="3105000" cy="1218960"/>
            <a:chOff x="1219320" y="4648320"/>
            <a:chExt cx="3105000" cy="1218960"/>
          </a:xfrm>
        </p:grpSpPr>
        <p:pic>
          <p:nvPicPr>
            <p:cNvPr id="145" name="Picture 4" descr="hamu-grad"/>
            <p:cNvPicPr/>
            <p:nvPr/>
          </p:nvPicPr>
          <p:blipFill>
            <a:blip r:embed="rId1"/>
            <a:stretch/>
          </p:blipFill>
          <p:spPr>
            <a:xfrm>
              <a:off x="3353040" y="4648320"/>
              <a:ext cx="97128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6"/>
            <p:cNvSpPr/>
            <p:nvPr/>
          </p:nvSpPr>
          <p:spPr>
            <a:xfrm>
              <a:off x="1219320" y="54864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imated</a:t>
              </a:r>
              <a:r>
                <a:rPr b="0" lang="en-US" sz="1800" spc="-1" strike="noStrike">
                  <a:solidFill>
                    <a:srgbClr val="ff33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7"/>
            <p:cNvSpPr/>
            <p:nvPr/>
          </p:nvSpPr>
          <p:spPr>
            <a:xfrm flipV="1">
              <a:off x="3048120" y="5638320"/>
              <a:ext cx="380880" cy="45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JPEG – Joint Photographic Experts Group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676160"/>
            <a:ext cx="4343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im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N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parenc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N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ss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lors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.7 M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4-b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quality but larger file size than a GI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0" y="15998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ly Used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ktop publishing photograp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otographs and natural ar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nned photograp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ailing photograp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gital camera photograp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0" descr="scene"/>
          <p:cNvPicPr/>
          <p:nvPr/>
        </p:nvPicPr>
        <p:blipFill>
          <a:blip r:embed="rId1"/>
          <a:srcRect l="2839" t="3924" r="3546" b="7848"/>
          <a:stretch/>
        </p:blipFill>
        <p:spPr>
          <a:xfrm>
            <a:off x="2133720" y="4876920"/>
            <a:ext cx="259056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MP - Bit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28600" y="1371600"/>
            <a:ext cx="4114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im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N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parenc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N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ompr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6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 size - not well suited for transfer across the Internet or for print pub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266720" y="1218960"/>
            <a:ext cx="4496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Used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ing raster grap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llpa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screen displ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1523880" y="5348160"/>
            <a:ext cx="6705720" cy="1511640"/>
            <a:chOff x="1523880" y="5348160"/>
            <a:chExt cx="6705720" cy="1511640"/>
          </a:xfrm>
        </p:grpSpPr>
        <p:pic>
          <p:nvPicPr>
            <p:cNvPr id="156" name="Picture 4" descr="icons3"/>
            <p:cNvPicPr/>
            <p:nvPr/>
          </p:nvPicPr>
          <p:blipFill>
            <a:blip r:embed="rId1"/>
            <a:srcRect l="0" t="0" r="34991" b="0"/>
            <a:stretch/>
          </p:blipFill>
          <p:spPr>
            <a:xfrm>
              <a:off x="1523880" y="5348160"/>
              <a:ext cx="670572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5"/>
            <p:cNvSpPr/>
            <p:nvPr/>
          </p:nvSpPr>
          <p:spPr>
            <a:xfrm>
              <a:off x="4495680" y="64915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alibri"/>
                </a:rPr>
                <a:t>Ic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NG – Portable Network Graph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447920"/>
            <a:ext cx="4152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ima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n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parenc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y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ssless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56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ol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uited for photograp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0" y="1447560"/>
            <a:ext cx="4076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ly Used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ing GIF and TIFF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ine viewing of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 examples at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Calibri"/>
                <a:hlinkClick r:id="rId1"/>
              </a:rPr>
              <a:t>http://graphicssoft.about.com/od/freedownloads/l/blfreepng07.ht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IFF – Tagged Image File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160" y="1218960"/>
            <a:ext cx="41907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im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N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parenc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N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ailable in compressed and un-compressed forma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is advi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lors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 M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4-b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10160" y="121896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ly Used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rage container for faxes and other digital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store raw bitmap data by some programs and devices such as scan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resolution prin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ktop Publishing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4:13:11Z</dcterms:created>
  <dc:creator>Bladen Crockett</dc:creator>
  <dc:description/>
  <dc:language>en-US</dc:language>
  <cp:lastModifiedBy>ycsadmin</cp:lastModifiedBy>
  <dcterms:modified xsi:type="dcterms:W3CDTF">2011-06-23T16:12:10Z</dcterms:modified>
  <cp:revision>119</cp:revision>
  <dc:subject/>
  <dc:title>Bitmap Images</dc:title>
</cp:coreProperties>
</file>